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A1B-FA80-4AAF-BB66-BBA5781E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C63-7612-40ED-8009-4F930063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049-DDB3-4F8D-970A-FEE8E858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6B3-D430-4B23-B699-BCF38C1B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D91-D6ED-4E5A-9422-3557EF1B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E9B-E104-476E-879C-1E95DCFC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B75-27FB-4BF7-9C1A-F125D33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87D-42AB-4C58-BE20-4A69C21A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D20-3909-4BB4-964E-69416CF6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C33-7193-485E-8D16-E73DBCEA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65F-4CC2-426B-B763-AE1DAC5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C31-0431-41AA-8AF5-B4302D9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8A22-28FF-4261-BADC-0F0DFE38AC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16E Matrices for simultaneous equation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hen an equation contains two unknowns, two equations are required to solve the unknowns. Simultaneous equat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Here is a pair of simultaneous equation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571760" y="3786120"/>
            <a:ext cx="186660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571760" y="4357800"/>
            <a:ext cx="186660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e can write these equations as a matrix equation in the form AX = B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here A =             is called the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coefficient matrix 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 =       and B =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428920" y="2786040"/>
            <a:ext cx="2495520" cy="78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786040" y="3786120"/>
            <a:ext cx="1038240" cy="781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1571760" y="4929120"/>
            <a:ext cx="466560" cy="771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3571920" y="4857840"/>
            <a:ext cx="46656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is the matrix of coefficients of x and y in the simultaneous equat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 is the matrix of the pronumerals used in the simultaneous equat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 is the matrix of numbers on the right hand side of the simultaneous equat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 equation in the form AX = B can be solved by pre-multiplying both sides by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 Ex 16E, Q. 2a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6E, Q. 2b, 2e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6E, Q.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6E, Q. 2b, 5, 6, 9, 10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6E, Q.12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6E, Q. 14, 15, 16, 17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8:18:35Z</dcterms:created>
  <dc:creator>08843474</dc:creator>
  <dc:description/>
  <dc:language>en-US</dc:language>
  <cp:lastModifiedBy>08843474</cp:lastModifiedBy>
  <dcterms:modified xsi:type="dcterms:W3CDTF">2011-05-16T09:01:26Z</dcterms:modified>
  <cp:revision>1</cp:revision>
  <dc:subject/>
  <dc:title>Matrices</dc:title>
</cp:coreProperties>
</file>